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32A-56E8-40BD-8C8E-63195598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B42-0D46-4864-848C-0491D7E9F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8FB4-5D37-444F-AA69-8FDA2CF3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871-28F2-4827-A949-5D59B238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212A-BE89-41B1-82F5-FD9366A49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D0876-64B5-4EBF-834F-7F5119F4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5124-C2E5-4DC8-8923-965821A0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6304-2967-474B-9E19-774FAB6A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FB91-3207-44B6-BC86-B2AD1DE1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2D59-EABE-4BF6-A52D-D92551A3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2BE5-42CB-4E3C-9D8F-9A85B1D4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4DB-42DC-41CA-A8A1-E82A8D5C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471E-5640-484A-94FE-0E25A27B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12A2-1358-422D-A80D-6C9AE437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68EC-41D4-4CCE-B3F4-3269A428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708D-1F9E-4E6A-843B-30B725F8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BDD2-90B7-4CDF-81B3-60A01B76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15D48-1036-4238-AE1D-8FC7C31B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E9F1F-62A4-4FDD-9DAE-B10EDF67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F59CD-1D6B-45F5-B55F-5CEE1AD3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E899-973F-4E95-808A-3F2CF9EB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A3AD-EECF-4786-99D5-61C2966F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842-1696-48F4-9532-1F44F4EE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4BDFB-7402-401B-97C6-7C0021C6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213A-126F-4DEA-8B6A-64B6EDE8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657EE-7351-42E1-B173-8CA95103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AAE4C-B868-46BC-B94D-304D196E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AA9E9-D183-441E-ABEE-2AC81355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A5E94-F969-4FD7-B6A3-5348AB98F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BBE0-BA95-44C0-BB8C-D3547C8A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01980-40D9-4009-B87E-ACFD6AAF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9938B-EA50-408C-941D-F5322BCC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78BE4-F226-4F37-B05B-A635841E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276-0BE8-49E9-823A-D17688B3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27F1B-807A-4D80-A841-C974A831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F7713-744C-4B8B-91C6-A843ABE4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28CFE-72B6-4277-A0E6-A492FE2F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2559F-4DED-4B9C-88F7-7A582148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139E3-82F4-4340-8399-FFD00C49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E1FF-E9BF-4B9E-90A8-B9EE8EBE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FC85A-C7C3-443C-8D7C-B0D92D7F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459D6-DB88-4F0F-9E82-D377A187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85EBD-F247-478E-85E1-01C09964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F08-E75B-4C7D-9532-1B538EA8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FFB-A75D-4201-B088-68E5A1BD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633-8120-4AD2-86C5-50C72B20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37A-1F61-4072-B67C-CAE5B0B2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961C-AA7B-4251-A82C-01DE8681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803C-4892-4739-98B4-BCCBE815FA5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3FDE-C4D5-4666-8A53-A1F7C355A40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9C6C-3E76-4B14-8AE4-3E48D6A46B8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40EF-BE8B-44FF-A4C2-64C28D5B3CAD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F661-65FC-4FAC-A0F9-5948C06DB47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31880" y="2007720"/>
            <a:ext cx="7200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просы организации заявительной аттестации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2014 году</a:t>
            </a:r>
            <a:br>
              <a:rPr sz="36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обязательной аттестации</a:t>
            </a:r>
            <a:br>
              <a:rPr sz="3100"/>
            </a:b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        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-360" y="331560"/>
            <a:ext cx="8962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Скругленный прямоугольник 15"/>
          <p:cNvSpPr/>
          <p:nvPr/>
        </p:nvSpPr>
        <p:spPr>
          <a:xfrm>
            <a:off x="4067280" y="4343400"/>
            <a:ext cx="4208400" cy="1523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8" descr="Герб Республики Татарстан"/>
          <p:cNvPicPr/>
          <p:nvPr/>
        </p:nvPicPr>
        <p:blipFill>
          <a:blip r:embed="rId1"/>
          <a:stretch/>
        </p:blipFill>
        <p:spPr>
          <a:xfrm>
            <a:off x="324000" y="147600"/>
            <a:ext cx="834840" cy="758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http://mon.tatarstan.ru/file/3.10.13%20%D0%92%D0%B8%D0%B4%20%D0%BD%D0%B0%20%D0%9A%D1%80%D0%B5%D0%BC%D0%BB%D1%8C_%D0%BC%D0%B8%D0%BD%20%D0%BE%D0%B1%D1%80%D0%B0%D0%B7_4578_.jpg"/>
          <p:cNvPicPr/>
          <p:nvPr/>
        </p:nvPicPr>
        <p:blipFill>
          <a:blip r:embed="rId2"/>
          <a:stretch/>
        </p:blipFill>
        <p:spPr>
          <a:xfrm>
            <a:off x="2232000" y="4287960"/>
            <a:ext cx="4248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281960" y="394200"/>
            <a:ext cx="7383600" cy="454320"/>
          </a:xfrm>
          <a:prstGeom prst="rect">
            <a:avLst/>
          </a:prstGeom>
          <a:noFill/>
          <a:ln w="25560">
            <a:solidFill>
              <a:srgbClr val="54a021"/>
            </a:solidFill>
            <a:round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rebuchet MS"/>
              </a:rPr>
              <a:t>Министерство образования и науки Республики Татарста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Номер слайда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3940-EA25-44D3-9250-FC8F6AAFAEE3}" type="slidenum">
              <a:rPr b="0" lang="ru-RU" sz="9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24" descr="users2.png"/>
          <p:cNvPicPr/>
          <p:nvPr/>
        </p:nvPicPr>
        <p:blipFill>
          <a:blip r:embed="rId1"/>
          <a:stretch/>
        </p:blipFill>
        <p:spPr>
          <a:xfrm>
            <a:off x="1047600" y="224460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3" descr="user3.png"/>
          <p:cNvPicPr/>
          <p:nvPr/>
        </p:nvPicPr>
        <p:blipFill>
          <a:blip r:embed="rId2"/>
          <a:stretch/>
        </p:blipFill>
        <p:spPr>
          <a:xfrm>
            <a:off x="1498680" y="2378160"/>
            <a:ext cx="43344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33" descr="businessmen.png"/>
          <p:cNvPicPr/>
          <p:nvPr/>
        </p:nvPicPr>
        <p:blipFill>
          <a:blip r:embed="rId3"/>
          <a:stretch/>
        </p:blipFill>
        <p:spPr>
          <a:xfrm>
            <a:off x="6958080" y="2341440"/>
            <a:ext cx="536400" cy="536760"/>
          </a:xfrm>
          <a:prstGeom prst="rect">
            <a:avLst/>
          </a:prstGeom>
          <a:ln w="0">
            <a:noFill/>
          </a:ln>
        </p:spPr>
      </p:pic>
      <p:sp>
        <p:nvSpPr>
          <p:cNvPr id="248" name="Скругленный прямоугольник 15"/>
          <p:cNvSpPr/>
          <p:nvPr/>
        </p:nvSpPr>
        <p:spPr>
          <a:xfrm>
            <a:off x="5838840" y="2819520"/>
            <a:ext cx="2590920" cy="896760"/>
          </a:xfrm>
          <a:prstGeom prst="roundRect">
            <a:avLst>
              <a:gd name="adj" fmla="val 16667"/>
            </a:avLst>
          </a:prstGeom>
          <a:solidFill>
            <a:srgbClr val="c0e474"/>
          </a:solidFill>
          <a:ln w="9360">
            <a:solidFill>
              <a:srgbClr val="99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и Министерстве по делам молодежи, спорту и туризму 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15"/>
          <p:cNvSpPr/>
          <p:nvPr/>
        </p:nvSpPr>
        <p:spPr>
          <a:xfrm>
            <a:off x="3060720" y="2790720"/>
            <a:ext cx="2495520" cy="757440"/>
          </a:xfrm>
          <a:prstGeom prst="roundRect">
            <a:avLst>
              <a:gd name="adj" fmla="val 16667"/>
            </a:avLst>
          </a:prstGeom>
          <a:solidFill>
            <a:srgbClr val="c0e474"/>
          </a:solidFill>
          <a:ln w="9360">
            <a:solidFill>
              <a:srgbClr val="99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и Министерстве культуры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23" descr="user3.png"/>
          <p:cNvPicPr/>
          <p:nvPr/>
        </p:nvPicPr>
        <p:blipFill>
          <a:blip r:embed="rId4"/>
          <a:stretch/>
        </p:blipFill>
        <p:spPr>
          <a:xfrm>
            <a:off x="3938760" y="2327400"/>
            <a:ext cx="392040" cy="3999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23" descr="user3.png"/>
          <p:cNvPicPr/>
          <p:nvPr/>
        </p:nvPicPr>
        <p:blipFill>
          <a:blip r:embed="rId5"/>
          <a:stretch/>
        </p:blipFill>
        <p:spPr>
          <a:xfrm>
            <a:off x="6607080" y="2411280"/>
            <a:ext cx="505080" cy="41760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15"/>
          <p:cNvSpPr/>
          <p:nvPr/>
        </p:nvSpPr>
        <p:spPr>
          <a:xfrm>
            <a:off x="600120" y="2778120"/>
            <a:ext cx="2179440" cy="1079640"/>
          </a:xfrm>
          <a:prstGeom prst="roundRect">
            <a:avLst>
              <a:gd name="adj" fmla="val 16667"/>
            </a:avLst>
          </a:prstGeom>
          <a:solidFill>
            <a:srgbClr val="c0e474"/>
          </a:solidFill>
          <a:ln w="9360">
            <a:solidFill>
              <a:srgbClr val="99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и Министерстве здравоохранения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3"/>
          <p:cNvSpPr/>
          <p:nvPr/>
        </p:nvSpPr>
        <p:spPr>
          <a:xfrm>
            <a:off x="2195640" y="1295280"/>
            <a:ext cx="5030640" cy="582840"/>
          </a:xfrm>
          <a:prstGeom prst="roundRect">
            <a:avLst>
              <a:gd name="adj" fmla="val 16667"/>
            </a:avLst>
          </a:prstGeom>
          <a:solidFill>
            <a:srgbClr val="c0e47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тестационная ко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 и Н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 стрелкой 8"/>
          <p:cNvCxnSpPr/>
          <p:nvPr/>
        </p:nvCxnSpPr>
        <p:spPr>
          <a:xfrm flipH="1" flipV="1">
            <a:off x="2382120" y="1877760"/>
            <a:ext cx="11880" cy="90072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5" name="Прямая со стрелкой 70"/>
          <p:cNvCxnSpPr/>
          <p:nvPr/>
        </p:nvCxnSpPr>
        <p:spPr>
          <a:xfrm flipH="1" flipV="1">
            <a:off x="4330440" y="1874160"/>
            <a:ext cx="18000" cy="82764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256" name="Рисунок 24" descr="users2.png"/>
          <p:cNvPicPr/>
          <p:nvPr/>
        </p:nvPicPr>
        <p:blipFill>
          <a:blip r:embed="rId6"/>
          <a:stretch/>
        </p:blipFill>
        <p:spPr>
          <a:xfrm>
            <a:off x="4432320" y="2305080"/>
            <a:ext cx="538200" cy="465120"/>
          </a:xfrm>
          <a:prstGeom prst="rect">
            <a:avLst/>
          </a:prstGeom>
          <a:ln w="0">
            <a:noFill/>
          </a:ln>
        </p:spPr>
      </p:pic>
      <p:cxnSp>
        <p:nvCxnSpPr>
          <p:cNvPr id="257" name="Прямая со стрелкой 113"/>
          <p:cNvCxnSpPr/>
          <p:nvPr/>
        </p:nvCxnSpPr>
        <p:spPr>
          <a:xfrm flipV="1">
            <a:off x="4431960" y="872280"/>
            <a:ext cx="1080" cy="40716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8" name="Прямая со стрелкой 116"/>
          <p:cNvCxnSpPr/>
          <p:nvPr/>
        </p:nvCxnSpPr>
        <p:spPr>
          <a:xfrm flipV="1">
            <a:off x="6580080" y="1866600"/>
            <a:ext cx="15120" cy="96264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259" name="Picture 18" descr="Герб Республики Татарстан"/>
          <p:cNvPicPr/>
          <p:nvPr/>
        </p:nvPicPr>
        <p:blipFill>
          <a:blip r:embed="rId7"/>
          <a:stretch/>
        </p:blipFill>
        <p:spPr>
          <a:xfrm>
            <a:off x="276120" y="220680"/>
            <a:ext cx="82260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F950-80EC-4186-9F21-9D8B53CD6B4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696080" cy="10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734544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Trebuchet MS"/>
              </a:rPr>
              <a:t>Для МО и Н РТ: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0033cc"/>
                </a:solidFill>
                <a:latin typeface="Trebuchet MS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перевод процедур педагогической аттестации в режим Интернет-технологий в информационной системе «Электронное образование</a:t>
            </a:r>
            <a:r>
              <a:rPr b="1" lang="ru-RU" sz="2700" spc="-1" strike="noStrike">
                <a:solidFill>
                  <a:srgbClr val="7030a0"/>
                </a:solidFill>
                <a:latin typeface="Trebuchet MS"/>
              </a:rPr>
              <a:t>»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Trebuchet MS"/>
              </a:rPr>
              <a:t>Для ОУ: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- Организовать в ОУ проведение  методических семинаров, педсоветов по совершенствованию  ведущих  профессиональных компетенций в рамках нового порядка аттестации</a:t>
            </a:r>
            <a:r>
              <a:rPr b="1" lang="ru-RU" sz="2700" spc="-1" strike="noStrike">
                <a:solidFill>
                  <a:srgbClr val="0033cc"/>
                </a:solidFill>
                <a:latin typeface="Trebuchet MS"/>
              </a:rPr>
              <a:t>, </a:t>
            </a:r>
            <a:r>
              <a:rPr b="1" lang="ru-RU" sz="2700" spc="-1" strike="noStrike">
                <a:solidFill>
                  <a:srgbClr val="ff0000"/>
                </a:solidFill>
                <a:latin typeface="Trebuchet MS"/>
              </a:rPr>
              <a:t>проведение аттестацию на СЗД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68360" y="189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 на 2014 /2015 учебный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DED5-9BC7-4341-9563-6050F315C79E}" type="slidenum">
              <a:rPr b="0" lang="ru-RU" sz="9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920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A9FA-223F-442A-9444-A9C5CFBEAA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900000" y="189000"/>
            <a:ext cx="7272360" cy="605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каз МО и Н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07 апреля 2014 г. №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«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 порядке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дагогических 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й, осуществл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ую  деятельность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324000" y="49536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Федеральные документы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B24C-D577-42B0-979F-F1EC0EE86AD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79280" y="18432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каз  Министерства здравоохра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социального развития   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26 августа 2010 г.  №761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Об утверждении Еди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го справ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уководителей, специалистов и служащ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аздел «Квалификационные характерис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должностей работников образования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539640" y="260280"/>
            <a:ext cx="81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04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7640" y="1125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24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24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Письмо Департамента общего образования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24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МО и Н РФ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rebuchet MS"/>
              </a:rPr>
              <a:t>от 27.02.2012 г.№ 03-109 </a:t>
            </a: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«О повышении квалификации и аттестации педагогических работников</a:t>
            </a: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2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24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C02F-1D73-4212-9334-6F826CD3295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179280" y="260280"/>
            <a:ext cx="864072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ва вида аттестации для педаг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1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 целью под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занимаемой дол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 уровне 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2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ля установления соответ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ровня квалификации треб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Заголовок 2"/>
          <p:cNvSpPr/>
          <p:nvPr/>
        </p:nvSpPr>
        <p:spPr>
          <a:xfrm>
            <a:off x="395280" y="476280"/>
            <a:ext cx="8516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Изменения в порядке 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24C2-41DC-460A-8880-4D0BA56BC2A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179280" y="260280"/>
            <a:ext cx="813780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ОБЯЗАТЕЛЬНАЯ  АТТЕС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ттестация с целью под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оответствия  занимаемой долж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водится п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дставлению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дин раз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5 лет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в отношении те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 кого нет квалификационных катег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Процедура аттестац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ценка профессиональн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(оценка знаний в письменной форм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Заголовок 2"/>
          <p:cNvSpPr/>
          <p:nvPr/>
        </p:nvSpPr>
        <p:spPr>
          <a:xfrm>
            <a:off x="395280" y="476280"/>
            <a:ext cx="8516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F74C-7D24-410E-8817-A57F114D935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108000" y="16992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каз работника от прох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ттестации с целью подтвер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занима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олжности является  наруш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трудовой дисциплины, влекущее за соб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исциплинарные взыскания в соответств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  статьей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92 Т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Заголовок 2"/>
          <p:cNvSpPr/>
          <p:nvPr/>
        </p:nvSpPr>
        <p:spPr>
          <a:xfrm>
            <a:off x="366840" y="120600"/>
            <a:ext cx="85168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ТВЕТСТВЕННОСТЬ РАБОТ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CAE6-8FD2-4737-A3B0-77BDE1C8164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108000" y="169920"/>
            <a:ext cx="813600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ТВЕТСТВЕННОСТЬ  РАБОТОД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а своевременное пр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аттестации с целью подтвер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 занимаемой дол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абот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Заголовок 2"/>
          <p:cNvSpPr/>
          <p:nvPr/>
        </p:nvSpPr>
        <p:spPr>
          <a:xfrm>
            <a:off x="366840" y="120600"/>
            <a:ext cx="85168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C57D-3253-4246-AE45-E48025D97C6A}" type="slidenum">
              <a:rPr b="0" lang="ru-RU" sz="9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br>
              <a:rPr sz="1600"/>
            </a:b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Федеральный Закон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900" spc="-1" strike="noStrike" u="sng">
                <a:solidFill>
                  <a:srgbClr val="ff0000"/>
                </a:solidFill>
                <a:uFillTx/>
                <a:latin typeface="Times New Roman"/>
              </a:rPr>
              <a:t>«Об образовании в Российской Федерации»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татья 49.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тестация педагогических работников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. 3 статьи 49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аттестация педагогических работников осуществляется уполномоченными органами государственной власти субъектов Российской Федерации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27B6-1D65-4BAA-B025-939698A030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97E4-6660-4C22-AB6C-7AEEEBF96FC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108000" y="16992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 подлежат аттестации работ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меющие квалификационные категор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оработавшие в должности мене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лет 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рганиза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беременные женщины, либо находящи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 отпуске по беременности  и родам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уходу за ребенком до 3-х л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отсутствовавшие на рабоч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есте более 4-х месяце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Заголовок 2"/>
          <p:cNvSpPr/>
          <p:nvPr/>
        </p:nvSpPr>
        <p:spPr>
          <a:xfrm>
            <a:off x="366840" y="120600"/>
            <a:ext cx="7877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ЯЗАТЕЛЬНАЯ 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D4F2-85F0-4372-8C55-97BAE885C9B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108000" y="16992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х аттестация возмож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о п. 1. не ранее,  чем через 2 года по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их выхода с от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о п.2. не ране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чем через год после выхода их на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Заголовок 2"/>
          <p:cNvSpPr/>
          <p:nvPr/>
        </p:nvSpPr>
        <p:spPr>
          <a:xfrm>
            <a:off x="366840" y="120600"/>
            <a:ext cx="851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РОК ИХ 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17BA-9DBD-4F6C-93C5-F8DF42314AB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250920" y="631800"/>
            <a:ext cx="7805520" cy="562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Segoe UI"/>
              </a:rPr>
              <a:t>Перенос сроков аттестации в пределах 1 год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болезни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( больничный лист, справк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если срок категории истек во время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тпуска до 1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или зарубежной командировки (стажировки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если работник перешел в год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на новое место работы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связи с сокрашением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если работник завершает обучение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ВУЗе, СС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Заголовок 2"/>
          <p:cNvSpPr/>
          <p:nvPr/>
        </p:nvSpPr>
        <p:spPr>
          <a:xfrm>
            <a:off x="366840" y="120600"/>
            <a:ext cx="85168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ЯЗАТЕЛЬНАЯ АТТЕС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9A1A-4135-461A-AAE2-4AEF1F9C8F5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179280" y="353880"/>
            <a:ext cx="8713800" cy="633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РГАНИЗАЦИЯ ОБЯЗАТЕЛЬ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 этап: Подготовка работод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ставлений на аттестуемых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 этап: 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издание приказа в О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3 этап: определение  графика проведения аттес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4 этап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: Провед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ценки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2EB4-561B-430D-81CC-5A8C9887BB1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179280" y="18900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РГАНИЗАЦИЯ ОБЯЗАТЕЛЬНОЙ АТТЕС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5 этап: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ведение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 этап: Оформлени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токола в день пр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7 этап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дач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ыпис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з протокола (не позднее 2 рабочих дн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8этап. Работодател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накомит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с выпи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течение 3 – х рабочих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(передает протокол для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личном деле работн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5F49-C2E6-497B-A336-DC86BE899B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08080" y="13644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ценка профессиональных знаний аттестуемых в 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одятся аттестационной комиссии  по граф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едущая форма 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стирование  в присутствии коми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Альтернативные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ешение педагогических 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составление конспекта урока (занят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FACA-3A41-4DF5-90E3-1E6CC31281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208080" y="13644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Методика  оценки квалиф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валификация- совокупнос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6 основных компетент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бласти личностны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в   постановке   целей   и  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мотивировании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разработке программы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и принятии педагоги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  в     обеспечении     информ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сновы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рганизации педагогической деятельност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Заголовок 2"/>
          <p:cNvSpPr/>
          <p:nvPr/>
        </p:nvSpPr>
        <p:spPr>
          <a:xfrm>
            <a:off x="476280" y="1047600"/>
            <a:ext cx="8516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8234-3AB7-4D2B-9854-162E639ACA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179280" y="333360"/>
            <a:ext cx="8713800" cy="602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РЯДОК ПР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аксимальное время для напис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онспекта урока (занятия)  -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дагог  имеет  при себ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боч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грамму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, гелевую ручку, 10 л. бума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чебник (хрестоматии, сборники задач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дагогу предлага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нстру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(структура конспекта, критерии, требовани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2970-6859-43C6-B3CC-547301A80A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"/>
          <p:cNvSpPr/>
          <p:nvPr/>
        </p:nvSpPr>
        <p:spPr>
          <a:xfrm>
            <a:off x="179280" y="18900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РЯДОК ПРОВЕД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нформация о сроках и месте пр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ценки знаний сообщается работник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 меся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ботодатель издает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каз о проведении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оценки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ботни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ормирует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аттестационную комиссию о фор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мете, классе, рабочей програм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назначенный день работни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ста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нспект урока (занятия) на бумагоносит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присутствии экспертов –членов экспертной комис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ему урок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лагает комиссия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з числа 10 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изучению нового материала, указ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рабочей програм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6ED6-AA3B-43C9-B4E7-602EFA7B15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179280" y="18900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ОРЯДОК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ред началом процедуры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и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штампуются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завершении консп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редаются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верку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членам коми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результатам провер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-  оформля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окол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( в 2-х экз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2983-AD3B-4270-AA8E-6440C4854E81}" type="slidenum">
              <a:rPr b="0" lang="ru-RU" sz="9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115920"/>
            <a:ext cx="90010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кон Республики Татарстан </a:t>
            </a: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т 22 июля 2013 г. № 68-ЗРТ "Об образовании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"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483920"/>
            <a:ext cx="8712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. 4 статьи 4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 исполнительной власти Республики Татарстан, осуществляющий государственное управление в сфере образования проводит аттестацию в целях установления квалификационной категории педагогических работников организаций, осуществляющих образовательную деятельность и находящихся в ведении Республики Татарстан, педагогических работников муниципальных и частных организаций, осуществляющих образовательную деятельност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7779-0D37-4B27-8FBD-FC45619D2A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1564-53B5-40E1-BA54-DBCA3CC03F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"/>
          <p:cNvSpPr/>
          <p:nvPr/>
        </p:nvSpPr>
        <p:spPr>
          <a:xfrm>
            <a:off x="900000" y="189000"/>
            <a:ext cx="7272360" cy="605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каз МО и Н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07 апреля 2014 г. №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«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 порядке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дагогических 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й, осуществл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ую  деятельность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324000" y="49536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Федеральные документы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CE7D-1F6A-474B-954F-C7584534128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324000" y="260280"/>
            <a:ext cx="8461080" cy="600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Заголовок 2"/>
          <p:cNvSpPr/>
          <p:nvPr/>
        </p:nvSpPr>
        <p:spPr>
          <a:xfrm>
            <a:off x="395280" y="76500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ттестация для присвоения квалификационных категорий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95280" y="198900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оди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заявлению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едагогических работников  до истечения срока  имеющейся квалификационной категории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осрочная аттестация  разрешается через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 год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сле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ыдущей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Процедура аттестации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экспертная 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9D6C-3B5B-4CEB-820C-59023BD3BA4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179280" y="189000"/>
            <a:ext cx="8605800" cy="629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 для присвоения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первой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табильные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своения обучающимися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-выявления развития у обучающихся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 научной (интеллектуальной), творческой, физкультур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портив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личного вклада в повышение качества образ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овершенствования методов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анслирования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в педагогических коллективах опы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актических результатов своей професс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активного участия в работе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тод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ъединений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Заголовок 2"/>
          <p:cNvSpPr/>
          <p:nvPr/>
        </p:nvSpPr>
        <p:spPr>
          <a:xfrm>
            <a:off x="395280" y="404640"/>
            <a:ext cx="85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83A1-D9C9-4BD9-B2EE-47DD812DED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324000" y="189000"/>
            <a:ext cx="8461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для присвоения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сше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наличие  первой катег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участие воспитаннико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сероссийских олимпиад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нкурсах, соревнованиях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транслирования в педагогических коллекти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опыта практически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ктивное распространение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нновационного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 повышению  качества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имента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BE6E-5858-4CA2-A509-1B4275A707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"/>
          <p:cNvSpPr/>
          <p:nvPr/>
        </p:nvSpPr>
        <p:spPr>
          <a:xfrm>
            <a:off x="293760" y="174600"/>
            <a:ext cx="8461440" cy="654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UI Semibold"/>
              </a:rPr>
              <a:t>Работник </a:t>
            </a:r>
            <a:r>
              <a:rPr b="1" lang="ru-RU" sz="2400" spc="-1" strike="noStrike">
                <a:solidFill>
                  <a:srgbClr val="0000ff"/>
                </a:solidFill>
                <a:latin typeface="Segoe UI Semibold"/>
              </a:rPr>
              <a:t>подает в комиссию </a:t>
            </a:r>
            <a:r>
              <a:rPr b="1" lang="ru-RU" sz="2400" spc="-1" strike="noStrike">
                <a:solidFill>
                  <a:srgbClr val="ff0000"/>
                </a:solidFill>
                <a:latin typeface="Segoe UI Semibold"/>
              </a:rPr>
              <a:t>через ЭО</a:t>
            </a:r>
            <a:r>
              <a:rPr b="1" lang="ru-RU" sz="2400" spc="-1" strike="noStrike">
                <a:solidFill>
                  <a:srgbClr val="0000ff"/>
                </a:solidFill>
                <a:latin typeface="Segoe UI Semi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аявление по установлен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правка о профессиональном тестиро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в 2014 году работник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шел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ранее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Копия аттестационного листа или друг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окумента по итогам предыдуще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л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ысшей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отовя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ы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 аттестуемого работник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Экспертное заключение, эксперт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еречень документов при аттестации на категорию (первую  или высшую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029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 u="sng">
                <a:solidFill>
                  <a:srgbClr val="000000"/>
                </a:solidFill>
                <a:uFillTx/>
                <a:latin typeface="Trebuchet MS"/>
              </a:rPr>
              <a:t>Тестирование проводился </a:t>
            </a: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с 2009 по 2014 год - в формате 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ЕГЭ, ЕРЭ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9900ff"/>
                </a:solidFill>
                <a:latin typeface="Trebuchet MS"/>
              </a:rPr>
              <a:t>-  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Trebuchet MS"/>
              </a:rPr>
              <a:t>в РЦМКО </a:t>
            </a: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Trebuchet MS"/>
              </a:rPr>
              <a:t>остальные работники – через компьютерное тестирование</a:t>
            </a: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Trebuchet MS"/>
              </a:rPr>
              <a:t>В 2015 году </a:t>
            </a: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Trebuchet MS"/>
              </a:rPr>
              <a:t> все </a:t>
            </a:r>
            <a:r>
              <a:rPr b="0" lang="ru-RU" sz="2600" spc="-1" strike="noStrike">
                <a:solidFill>
                  <a:srgbClr val="0000ff"/>
                </a:solidFill>
                <a:latin typeface="Trebuchet MS"/>
              </a:rPr>
              <a:t>педагоги будут проходить тестирование в системе «Электронное образование» после подачи заявления </a:t>
            </a:r>
            <a:br>
              <a:rPr sz="2600"/>
            </a:br>
            <a:br>
              <a:rPr sz="2800"/>
            </a:b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676908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Зачетный миниму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448000" y="1989000"/>
            <a:ext cx="6696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6b91e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rebuchet MS"/>
              </a:rPr>
              <a:t>На первую категорию –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70</a:t>
            </a:r>
            <a:r>
              <a:rPr b="0" lang="ru-RU" sz="1800" spc="-1" strike="noStrike">
                <a:solidFill>
                  <a:srgbClr val="0000ff"/>
                </a:solidFill>
                <a:latin typeface="Trebuchet MS"/>
              </a:rPr>
              <a:t> балло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6b91e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6b91e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rebuchet MS"/>
              </a:rPr>
              <a:t>На высшую категорию –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80</a:t>
            </a:r>
            <a:r>
              <a:rPr b="0" lang="ru-RU" sz="1800" spc="-1" strike="noStrike">
                <a:solidFill>
                  <a:srgbClr val="0000ff"/>
                </a:solidFill>
                <a:latin typeface="Trebuchet MS"/>
              </a:rPr>
              <a:t> балло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6b91e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 нехватке -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балла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авляются автоматичес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B065-6D30-4610-BA9A-CB7E853888E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2731-7DC2-4B5E-945F-E00A144788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395280" y="333360"/>
            <a:ext cx="8280360" cy="626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2014 году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с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итываются за последние 5 л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ECCD-88E2-4D21-99AB-89592E4C81D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РГАН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ЯВИТЕЛЬ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ТТЕС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2014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AECA-4932-4B81-8EC4-3F5A378D12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РГАНИЗАЦИЯ ЗАЯВИТЕЛЬНОЙ АТТЕСТАЦИИ 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. Предварительный этап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рохождение работник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офесс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естирования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компьютерного или в формате ЕГЭ) С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дач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явления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на аттест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то прошел в 2010 году)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одготовка для экспертов листа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. Подача документов через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Издание приказа МО и Н РТ о про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Проведе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из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по месту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уемого педагог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Заполнение экспертных заключений в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6. Проведение заседания АК МОиН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Изда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каза МОиН РТ об итогах аттест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оформление и выдача аттестационных листов отмен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C219-DA19-4BC6-A75A-CAC28FD469A5}" type="slidenum">
              <a:rPr b="0" lang="ru-RU" sz="9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2560" y="115920"/>
            <a:ext cx="90010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ложение о Министерстве образования и науки Республики Татарстан"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483920"/>
            <a:ext cx="8712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ред. Постановлений КМ РТ  от 23.01.2014 №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3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. 3. Функции Министерств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270080" indent="-469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тестация педагогических работников образовательных организаций Республики Татарстан и муниципальных образовательных организаций, расположенных на территории Республики Татарста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664C-75E3-438F-BD11-0DE60B8203D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A0B1-AAB8-43F0-A662-63ACA26A88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611280" y="382680"/>
            <a:ext cx="806616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лгоритм проведения эксперти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определяют состав  экспертных груп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для утверждения приказом МО и Н РТ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(направить по почте предложени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Независимые эксперты проводят эксперти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профессиональных результатов, анализиру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уроки, сопоставляют  свои выводы с листом самооцен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аттестуемого  педагога, готовят эксперт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заключение; экспертный ли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3. 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контролируют оформл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экспертного заключения  в ИС передают копии экспертного лис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в МОиН РТ для опла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ff"/>
                </a:solidFill>
                <a:latin typeface="Times New Roman"/>
              </a:rPr>
              <a:t>На 2015 год  муниципалы и ОО должн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ff"/>
                </a:solidFill>
                <a:latin typeface="Times New Roman"/>
              </a:rPr>
              <a:t>включить в свой бюджет оплату экспер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0EE6-6CFB-4576-9E97-DFBF7D96F5B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5120" y="260280"/>
            <a:ext cx="777888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Экспертиза из 2 блоков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7848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мониторинг результатов (п.3.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ЕГЭ, ЕРЭ     тестирование  олимпиады      внутренний контрол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аттестационная   экспертиз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амооценка      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экспертная оцен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cxnSp>
        <p:nvCxnSpPr>
          <p:cNvPr id="341" name="Прямая со стрелкой 4"/>
          <p:cNvCxnSpPr/>
          <p:nvPr/>
        </p:nvCxnSpPr>
        <p:spPr>
          <a:xfrm>
            <a:off x="1082160" y="2200320"/>
            <a:ext cx="1080" cy="50400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2" name="Прямая соединительная линия 13"/>
          <p:cNvSpPr/>
          <p:nvPr/>
        </p:nvSpPr>
        <p:spPr>
          <a:xfrm flipV="1">
            <a:off x="1082520" y="2176200"/>
            <a:ext cx="4641840" cy="28440"/>
          </a:xfrm>
          <a:prstGeom prst="line">
            <a:avLst/>
          </a:prstGeom>
          <a:ln cap="rnd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Прямая со стрелкой 19"/>
          <p:cNvCxnSpPr/>
          <p:nvPr/>
        </p:nvCxnSpPr>
        <p:spPr>
          <a:xfrm>
            <a:off x="3634920" y="2217240"/>
            <a:ext cx="1080" cy="50580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4" name="Прямая со стрелкой 20"/>
          <p:cNvCxnSpPr/>
          <p:nvPr/>
        </p:nvCxnSpPr>
        <p:spPr>
          <a:xfrm>
            <a:off x="5724000" y="2200320"/>
            <a:ext cx="1080" cy="50544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5" name="Прямая соединительная линия 24"/>
          <p:cNvSpPr/>
          <p:nvPr/>
        </p:nvSpPr>
        <p:spPr>
          <a:xfrm>
            <a:off x="773280" y="4508640"/>
            <a:ext cx="1860480" cy="0"/>
          </a:xfrm>
          <a:prstGeom prst="line">
            <a:avLst/>
          </a:prstGeom>
          <a:ln cap="rnd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Прямая со стрелкой 25"/>
          <p:cNvCxnSpPr/>
          <p:nvPr/>
        </p:nvCxnSpPr>
        <p:spPr>
          <a:xfrm>
            <a:off x="772920" y="4508280"/>
            <a:ext cx="1080" cy="71964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7" name="Прямая со стрелкой 27"/>
          <p:cNvCxnSpPr/>
          <p:nvPr/>
        </p:nvCxnSpPr>
        <p:spPr>
          <a:xfrm>
            <a:off x="2633400" y="4508280"/>
            <a:ext cx="1080" cy="71964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3300"/>
                </a:solidFill>
                <a:latin typeface="Trebuchet MS"/>
              </a:rPr>
              <a:t>Эксперты ( не более 2 чел.)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920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</a:t>
            </a:r>
            <a:r>
              <a:rPr b="0" lang="ru-RU" sz="2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ля впервые аттестуемых: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ый эксперт (1 чел.)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м.директора ОУ (1 чел.) по месту работы аттестуемого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Для подтверждающих категорию: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ОУ (1 чел.)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ттестуемый имеет право потребовать независимых экспертов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FC6A-7076-4239-B60E-AE7F52EBF81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50920" y="333360"/>
            <a:ext cx="8497800" cy="619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висимые эксперт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 направл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педагогическим работникам (при повторной аттест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наличии у н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стижений на профессион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курсах, предметных олимпиадах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ых, отраслевых нагр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 руководящим работникам, аттестуем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о педагогическим должностям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независим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эксперты направляются обязательно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448920"/>
            <a:ext cx="63356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rebuchet MS"/>
              </a:rPr>
              <a:t>Важно!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55640" y="155736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сшей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тегории  дополнительно проводится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ертиза инновационных разработок, если отсутствует инновационная деятельность аттестуемых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1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100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амках методических конкурсов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100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учно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практических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нференц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1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республиканского,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ого,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дународного уровней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100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экспериментальная работ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416720" cy="5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чень документов 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бходимых для ИС: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1628640"/>
            <a:ext cx="76327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онный лист старый для высшей категории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результативности профессиональной деятельности для всех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экспертиз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товерение о курсах , заверенные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или отзыв на  авторские разработки ( или  документ об участии в методическом конкурсе республиканского уровня),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идетельство или сертификат об экспериментальной работе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документ об участии детей в олимпиадах, конкурсах, соревнованиях   всероссийского уровня или в региональном этапе данных мероприятий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C344-8873-4EB8-84C8-919F9A8FBC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"/>
          <p:cNvSpPr/>
          <p:nvPr/>
        </p:nvSpPr>
        <p:spPr>
          <a:xfrm>
            <a:off x="250920" y="260280"/>
            <a:ext cx="7921440" cy="630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ауки Республики Татарст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145/14 от 11.09.201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О проведении аттестац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х рабо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спублики Татарстан  в 2014 г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468360" y="260280"/>
            <a:ext cx="794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ональные нормативные 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87D6-CEA1-4393-AD85-06EC5824464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Trebuchet MS"/>
              </a:rPr>
              <a:t>НОРМАТИВНЫЕ АКТЫ МОи РТ</a:t>
            </a:r>
            <a:endParaRPr b="0" lang="en-US" sz="3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Приказ МО и Н РТ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№ 4231/14 от 25.07.2014 г.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«Об утверждении Административного регламента по проведению аттестации педагогических  работников  Республики Татарстан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Приказ МО и Н РТ  № 597/14 от 11.02.2014 г. «Об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кспертных комиссиях по муниципальным образованиям Республики Татарстан аттестационной комиссии МОиН РТ»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5B9E-17DD-4DF5-BBB5-DB8C98A99B0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ОРМАТИВНЫЕ АКТЫ МОиН РТ</a:t>
            </a:r>
            <a:endParaRPr b="0" lang="en-US" sz="3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риказ МО и Н РТ № 3669/14 от 14 июля </a:t>
            </a: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2014 г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«Об утверждении Положения о формах и процедурах аттестации педагогических работников РТ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(В 2015 году изменитс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6220-0E4D-4848-BC44-21CEE070256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"/>
          <p:cNvSpPr/>
          <p:nvPr/>
        </p:nvSpPr>
        <p:spPr>
          <a:xfrm>
            <a:off x="250920" y="476280"/>
            <a:ext cx="8642160" cy="597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ГИОНАЛЬНЫЕ  НОРМАТИВНЫЕ  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евое Соглашение между МО и Н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атарским рескомом профсоюза работ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одного образования и науки на 2014-2016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ложение №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Права и льготы работников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спублики Татарс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 подготовке и проведении аттестации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179280" y="2133720"/>
            <a:ext cx="81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ИХ  КАДРОВ -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 ГАРАНТИЯ  КАЧЕСТВА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http://kunelradio.ru/media/uploads/2012/08/01/pervoklaski.jpg"/>
          <p:cNvPicPr/>
          <p:nvPr/>
        </p:nvPicPr>
        <p:blipFill>
          <a:blip r:embed="rId1"/>
          <a:stretch/>
        </p:blipFill>
        <p:spPr>
          <a:xfrm>
            <a:off x="0" y="-41400"/>
            <a:ext cx="3024360" cy="19954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1" name="Picture 5" descr="В этом году значительная часть преподавателей вузов останется без работы &quot; Общество &quot; K-News: Новости Кыргызстана, Киргизии"/>
          <p:cNvPicPr/>
          <p:nvPr/>
        </p:nvPicPr>
        <p:blipFill>
          <a:blip r:embed="rId2"/>
          <a:stretch/>
        </p:blipFill>
        <p:spPr>
          <a:xfrm>
            <a:off x="5899320" y="4745160"/>
            <a:ext cx="28159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раслевое соглашение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  профсоюзом работников образования</a:t>
            </a:r>
            <a:br>
              <a:rPr sz="2700"/>
            </a:br>
            <a:br>
              <a:rPr sz="27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95280" y="1753920"/>
            <a:ext cx="874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ания дл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ереноса срок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аттестации на подтверждение СЗД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н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прощенных фор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спертизы при наличии заслуг, отраслевых и государственных наград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хран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валификационных категорий на разных должностях (учебных предметах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2ACC-E7BD-4FD1-A26E-EFFAA4FDBD3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65ED-E388-4427-8D4F-A8E4CA10754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3"/>
          <p:cNvSpPr/>
          <p:nvPr/>
        </p:nvSpPr>
        <p:spPr>
          <a:xfrm>
            <a:off x="250920" y="260280"/>
            <a:ext cx="8570880" cy="622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МО и Н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20 января 2011 г. № 63/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«Об утверждении Примерного поло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 аттестации руководител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(директоров, заведующих, начальнико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ых 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01F4-DE33-4220-B834-386843A73E8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179280" y="333360"/>
            <a:ext cx="8713800" cy="626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РЕГИОНАЛЬНЫЕ НОРМАТИВНЫЕ  АК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казы Министерства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спублики Татарст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19 января 2011 г. № 47/11 «Об утвер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ожения об аттестационной комиссии МО и Н Р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12 января 2012 г. № 107/12 «Об аттест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и МО и Н Р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9BA7-DF42-49B8-9618-2D6E07A6C2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179280" y="476280"/>
            <a:ext cx="7561440" cy="3889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 экспертной коми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подготовке и проведению аттес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 соответствие занимаемой должности в 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учить зам. директоров, председ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тестационных комиссии У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онтролировать проведение оценки знаний, аттес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Контролировать разработку локальных а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ЗД (направлено официаль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AC84-533C-454D-B7F1-0B4002542CF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250920" y="333360"/>
            <a:ext cx="8642160" cy="614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 экспертной комиссии  по подгот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проведению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  квалификационные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ить список педагогов, у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ок действия категорий заканчивается в 201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формировать их о сроках и условиях подачи заявлений  на аттестаци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т. ч. Для подтверждения  имеющейся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Заранее обязаны были направить их на профессион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иро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 2015 году 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будет после заявления для вс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ECA7-C7CE-40F5-B2F3-22A02C0F79F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34560" y="765000"/>
            <a:ext cx="8209080" cy="7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РАФИК  АТТЕСТАЦИИ  НА  СЗД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целом не должно быть графика</a:t>
            </a:r>
            <a:br>
              <a:rPr sz="2800"/>
            </a:br>
            <a:br>
              <a:rPr sz="25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78920" y="1774800"/>
            <a:ext cx="76057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ентябрь 2014 года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ормление, представлений  и списков (по форме протокол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ой комиссий  в программ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L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каз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 1 октября по 10 октября 2014 г.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оценки заний в присутствии представителей экспертной комиссии АК  МО И Н  РТ, проведение заседа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53AE-0871-450F-8E31-356A176F2D1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1680" y="177480"/>
            <a:ext cx="81374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ЗАЯВИТЕЛЬНАЯ  АТТЕСТАЦИЯ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НА  ПЕРВУЮ  И ВЫСШУЮ  КАТЕГОРИИ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в 2014 г.</a:t>
            </a:r>
            <a:br>
              <a:rPr sz="2800"/>
            </a:br>
            <a:r>
              <a:rPr b="0" lang="ru-RU" sz="25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                     </a:t>
            </a:r>
            <a:br>
              <a:rPr sz="2500"/>
            </a:b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7640" y="1996560"/>
            <a:ext cx="777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 algn="just">
              <a:lnSpc>
                <a:spcPct val="8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тябрь 2014 г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трализованный прием в ИС заявлений на аттестацию работников, у которых срок действия квалификационных категорий заканчивается в 2015 г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96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9640" indent="-457200" algn="just">
              <a:lnSpc>
                <a:spcPct val="8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ябрь 2014 г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экспертных групп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96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9640" indent="-457200" algn="just">
              <a:lnSpc>
                <a:spcPct val="8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абрь 2014г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правление договоров на экспертов в МО и Н РТ, проведение заседания комиссии, вывешивание на сайт приказа приказ </a:t>
            </a: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иН РТ от 11.09.2014 г. № 5143/14  «О внесении изменении в порядок оформления результатов аттестации педработников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5256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Trebuchet MS"/>
              </a:rPr>
              <a:t>Общая задача</a:t>
            </a: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9640" y="1915920"/>
            <a:ext cx="878544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Сохранение и дальнейшее совершенствование региональной модели аттестации педагогических кадров в соответствии с современными требованиям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0ED5-2D48-4AAB-91FC-14EE67CFF4C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1921-E5AC-4297-8840-ADEDDE68400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ttp//www.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on.tatar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Раздел/ОБРАЗОВАНИЕ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«Педагогическая аттестация»</a:t>
            </a: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Тел. 294-95-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468360" y="260280"/>
            <a:ext cx="794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айт Министерства образования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 науки Республики Татар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Диаграмма 1"/>
          <p:cNvGraphicFramePr/>
          <p:nvPr/>
        </p:nvGraphicFramePr>
        <p:xfrm>
          <a:off x="539640" y="765000"/>
          <a:ext cx="7439040" cy="47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765000"/>
                    <a:ext cx="743904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457200" y="401760"/>
            <a:ext cx="82486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Диаграмма 2"/>
          <p:cNvGraphicFramePr/>
          <p:nvPr/>
        </p:nvGraphicFramePr>
        <p:xfrm>
          <a:off x="468360" y="692280"/>
          <a:ext cx="7093080" cy="38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3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92280"/>
                    <a:ext cx="709308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Диаграмма 1"/>
          <p:cNvGraphicFramePr/>
          <p:nvPr/>
        </p:nvGraphicFramePr>
        <p:xfrm>
          <a:off x="-324000" y="692280"/>
          <a:ext cx="8017200" cy="58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692280"/>
                    <a:ext cx="801720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69D3-E32C-422A-BD8B-D276B99D9EED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87760" y="4646160"/>
            <a:ext cx="3755880" cy="2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0" lang="ru-RU" sz="2500" spc="-1" strike="noStrike">
                <a:solidFill>
                  <a:srgbClr val="0000ff"/>
                </a:solidFill>
                <a:latin typeface="Trebuchet MS"/>
              </a:rPr>
              <a:t>         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99640" y="296640"/>
            <a:ext cx="7272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rebuchet MS"/>
              </a:rPr>
              <a:t>Министерство образования и науки Республики Татарста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Скругленный прямоугольник 15"/>
          <p:cNvSpPr/>
          <p:nvPr/>
        </p:nvSpPr>
        <p:spPr>
          <a:xfrm>
            <a:off x="3780000" y="4208400"/>
            <a:ext cx="5040000" cy="213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8" descr="Герб Республики Татарстан"/>
          <p:cNvPicPr/>
          <p:nvPr/>
        </p:nvPicPr>
        <p:blipFill>
          <a:blip r:embed="rId1"/>
          <a:stretch/>
        </p:blipFill>
        <p:spPr>
          <a:xfrm>
            <a:off x="250920" y="115920"/>
            <a:ext cx="793800" cy="720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http://mon.tatarstan.ru/file/3.10.13%20%D0%92%D0%B8%D0%B4%20%D0%BD%D0%B0%20%D0%9A%D1%80%D0%B5%D0%BC%D0%BB%D1%8C_%D0%BC%D0%B8%D0%BD%20%D0%BE%D0%B1%D1%80%D0%B0%D0%B7_4578_.jpg"/>
          <p:cNvPicPr/>
          <p:nvPr/>
        </p:nvPicPr>
        <p:blipFill>
          <a:blip r:embed="rId2"/>
          <a:stretch/>
        </p:blipFill>
        <p:spPr>
          <a:xfrm>
            <a:off x="1187280" y="2489040"/>
            <a:ext cx="5437440" cy="33832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1" descr=""/>
          <p:cNvPicPr/>
          <p:nvPr/>
        </p:nvPicPr>
        <p:blipFill>
          <a:blip r:embed="rId3"/>
          <a:stretch/>
        </p:blipFill>
        <p:spPr>
          <a:xfrm>
            <a:off x="2505240" y="1116000"/>
            <a:ext cx="463392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Основополагающие  документы для проведения аттестации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Объект 3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962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915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rebuchet MS"/>
              </a:rPr>
              <a:t>Основополагающие  документы для проведения аттестации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Объект 3" descr=""/>
          <p:cNvPicPr/>
          <p:nvPr/>
        </p:nvPicPr>
        <p:blipFill>
          <a:blip r:embed="rId1"/>
          <a:stretch/>
        </p:blipFill>
        <p:spPr>
          <a:xfrm>
            <a:off x="176040" y="2133720"/>
            <a:ext cx="7651800" cy="390672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ая соединительная линия 6"/>
          <p:cNvSpPr/>
          <p:nvPr/>
        </p:nvSpPr>
        <p:spPr>
          <a:xfrm flipH="1">
            <a:off x="271080" y="2708280"/>
            <a:ext cx="196920" cy="0"/>
          </a:xfrm>
          <a:prstGeom prst="line">
            <a:avLst/>
          </a:prstGeom>
          <a:ln cap="rnd" w="381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7"/>
          <p:cNvSpPr/>
          <p:nvPr/>
        </p:nvSpPr>
        <p:spPr>
          <a:xfrm flipH="1">
            <a:off x="297000" y="4076640"/>
            <a:ext cx="242640" cy="0"/>
          </a:xfrm>
          <a:prstGeom prst="line">
            <a:avLst/>
          </a:prstGeom>
          <a:ln cap="rnd" w="381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8"/>
          <p:cNvSpPr/>
          <p:nvPr/>
        </p:nvSpPr>
        <p:spPr>
          <a:xfrm flipH="1" flipV="1">
            <a:off x="296640" y="5222880"/>
            <a:ext cx="261720" cy="6480"/>
          </a:xfrm>
          <a:prstGeom prst="line">
            <a:avLst/>
          </a:prstGeom>
          <a:ln cap="rnd" w="381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10"/>
          <p:cNvSpPr/>
          <p:nvPr/>
        </p:nvSpPr>
        <p:spPr>
          <a:xfrm>
            <a:off x="271440" y="2708280"/>
            <a:ext cx="28440" cy="2514600"/>
          </a:xfrm>
          <a:prstGeom prst="line">
            <a:avLst/>
          </a:prstGeom>
          <a:ln cap="rnd" w="381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ый документ  МО и Н РТ,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ющий задачи по аттестации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014/2015 учебный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741672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аз МО и НРТ от 23 июля 2014 г. № 4206/14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итогах аттестации педагогических работников образования РТ в 2013/2014 учебном году и задачах по аттестации на 2014/2015 учебный год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01:08Z</dcterms:created>
  <dc:creator>admin</dc:creator>
  <dc:description/>
  <dc:language>en-US</dc:language>
  <cp:lastModifiedBy>Admin IK</cp:lastModifiedBy>
  <cp:lastPrinted>2014-08-27T17:24:32Z</cp:lastPrinted>
  <dcterms:modified xsi:type="dcterms:W3CDTF">2014-09-28T19:15:58Z</dcterms:modified>
  <cp:revision>275</cp:revision>
  <dc:subject/>
  <dc:title>Слайд 1</dc:title>
</cp:coreProperties>
</file>